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B01-C1FF-4F05-90FA-6D1E106A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4EE-4418-44CE-877C-45CA3AB6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EF5-5DA2-4F39-8EE1-857C388E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933-B050-4CEC-AD9C-EA5974D9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66F3-CFBF-4B32-8B2A-97043C5D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FA26-A5AB-459B-8CF4-87796181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FB20-24F0-429B-80C2-70C63C78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0E09-D9C4-48C9-8453-5384630E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67E8-3C9F-49E2-BC20-4028D072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FE59-F0A0-4CFE-975F-09567FB9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59D4-D736-41F5-9A60-5B0F62F1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F0D-18D8-4D1F-96D5-8EEBCBFC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0ADF-EEB8-4258-8551-F4BD4295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B0D2-FFBA-41CB-9EF1-E68CC2CD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BB8A-548D-40DC-B5EE-657718B4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ECE5-4948-4960-8211-9DD18435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0388-9989-446F-98E6-6C76E398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39B-208D-4B54-8561-A7BEFF8C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D73-C508-4130-8C4D-44C16CB2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F2F-FE24-40EE-80F1-14C7119C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A68-FA68-414B-9783-930960D1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5B7-66B9-4E65-BC2E-3998D4F8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085-9DBE-41AC-B710-358ABD0E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FA4-F0FC-46DF-9499-A8E9C625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0"/>
          <p:cNvPicPr/>
          <p:nvPr/>
        </p:nvPicPr>
        <p:blipFill>
          <a:blip r:embed="rId2"/>
          <a:stretch/>
        </p:blipFill>
        <p:spPr>
          <a:xfrm>
            <a:off x="0" y="82872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685800"/>
            <a:ext cx="9144000" cy="380880"/>
          </a:xfrm>
          <a:prstGeom prst="rect">
            <a:avLst/>
          </a:prstGeom>
          <a:solidFill>
            <a:srgbClr val="9a918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bcb5ac"/>
              </a:gs>
              <a:gs pos="100000">
                <a:srgbClr val="9a91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838080" y="146160"/>
            <a:ext cx="8305920" cy="815760"/>
          </a:xfrm>
          <a:prstGeom prst="rect">
            <a:avLst/>
          </a:prstGeom>
          <a:solidFill>
            <a:srgbClr val="d9d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4" name="Picture 12" descr="6"/>
          <p:cNvPicPr/>
          <p:nvPr/>
        </p:nvPicPr>
        <p:blipFill>
          <a:blip r:embed="rId3"/>
          <a:srcRect l="0" t="0" r="48404" b="35072"/>
          <a:stretch/>
        </p:blipFill>
        <p:spPr>
          <a:xfrm>
            <a:off x="7047000" y="127080"/>
            <a:ext cx="2097000" cy="83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cb5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cb5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2D27-63BE-4CCE-86EF-6A837BBF73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4" descr="11"/>
          <p:cNvPicPr/>
          <p:nvPr/>
        </p:nvPicPr>
        <p:blipFill>
          <a:blip r:embed="rId4"/>
          <a:srcRect l="0" t="0" r="0" b="16519"/>
          <a:stretch/>
        </p:blipFill>
        <p:spPr>
          <a:xfrm rot="10395000">
            <a:off x="228600" y="1306080"/>
            <a:ext cx="860400" cy="405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1"/>
          <p:cNvPicPr/>
          <p:nvPr/>
        </p:nvPicPr>
        <p:blipFill>
          <a:blip r:embed="rId5"/>
          <a:stretch/>
        </p:blipFill>
        <p:spPr>
          <a:xfrm rot="20663400">
            <a:off x="304560" y="-76320"/>
            <a:ext cx="442800" cy="16765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1" descr="3"/>
          <p:cNvPicPr/>
          <p:nvPr/>
        </p:nvPicPr>
        <p:blipFill>
          <a:blip r:embed="rId6"/>
          <a:srcRect l="0" t="0" r="32560" b="0"/>
          <a:stretch/>
        </p:blipFill>
        <p:spPr>
          <a:xfrm>
            <a:off x="6095880" y="12708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11"/>
          <p:cNvPicPr/>
          <p:nvPr/>
        </p:nvPicPr>
        <p:blipFill>
          <a:blip r:embed="rId2"/>
          <a:stretch/>
        </p:blipFill>
        <p:spPr>
          <a:xfrm>
            <a:off x="0" y="4241880"/>
            <a:ext cx="9144000" cy="2616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0"/>
            <a:ext cx="9144000" cy="4508640"/>
          </a:xfrm>
          <a:prstGeom prst="rect">
            <a:avLst/>
          </a:prstGeom>
          <a:gradFill rotWithShape="0">
            <a:gsLst>
              <a:gs pos="0">
                <a:srgbClr val="9a9180"/>
              </a:gs>
              <a:gs pos="100000">
                <a:srgbClr val="bcb5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7439040" y="4508640"/>
            <a:ext cx="1704960" cy="93600"/>
          </a:xfrm>
          <a:prstGeom prst="rect">
            <a:avLst/>
          </a:prstGeom>
          <a:solidFill>
            <a:srgbClr val="9a918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1619280" y="404640"/>
            <a:ext cx="7524720" cy="1656000"/>
          </a:xfrm>
          <a:prstGeom prst="rect">
            <a:avLst/>
          </a:prstGeom>
          <a:solidFill>
            <a:srgbClr val="d9d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2781360"/>
            <a:ext cx="7451640" cy="2303280"/>
          </a:xfrm>
          <a:prstGeom prst="rect">
            <a:avLst/>
          </a:prstGeom>
          <a:solidFill>
            <a:srgbClr val="d9d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54" name="Picture 12" descr="11"/>
          <p:cNvPicPr/>
          <p:nvPr/>
        </p:nvPicPr>
        <p:blipFill>
          <a:blip r:embed="rId3"/>
          <a:srcRect l="0" t="0" r="0" b="16519"/>
          <a:stretch/>
        </p:blipFill>
        <p:spPr>
          <a:xfrm>
            <a:off x="533520" y="5567400"/>
            <a:ext cx="1434960" cy="11556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26"/>
          <p:cNvGrpSpPr/>
          <p:nvPr/>
        </p:nvGrpSpPr>
        <p:grpSpPr>
          <a:xfrm>
            <a:off x="0" y="2781360"/>
            <a:ext cx="4235400" cy="2295360"/>
            <a:chOff x="0" y="2781360"/>
            <a:chExt cx="4235400" cy="2295360"/>
          </a:xfrm>
        </p:grpSpPr>
        <p:pic>
          <p:nvPicPr>
            <p:cNvPr id="56" name="Picture 15" descr="2"/>
            <p:cNvPicPr/>
            <p:nvPr/>
          </p:nvPicPr>
          <p:blipFill>
            <a:blip r:embed="rId4"/>
            <a:stretch/>
          </p:blipFill>
          <p:spPr>
            <a:xfrm>
              <a:off x="0" y="2781360"/>
              <a:ext cx="4235400" cy="22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8" descr="5"/>
            <p:cNvPicPr/>
            <p:nvPr/>
          </p:nvPicPr>
          <p:blipFill>
            <a:blip r:embed="rId5"/>
            <a:stretch/>
          </p:blipFill>
          <p:spPr>
            <a:xfrm>
              <a:off x="0" y="2781360"/>
              <a:ext cx="406728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Group 24"/>
          <p:cNvGrpSpPr/>
          <p:nvPr/>
        </p:nvGrpSpPr>
        <p:grpSpPr>
          <a:xfrm>
            <a:off x="2843280" y="404640"/>
            <a:ext cx="6300720" cy="1660680"/>
            <a:chOff x="2843280" y="404640"/>
            <a:chExt cx="6300720" cy="1660680"/>
          </a:xfrm>
        </p:grpSpPr>
        <p:pic>
          <p:nvPicPr>
            <p:cNvPr id="59" name="Picture 14" descr="3"/>
            <p:cNvPicPr/>
            <p:nvPr/>
          </p:nvPicPr>
          <p:blipFill>
            <a:blip r:embed="rId6"/>
            <a:stretch/>
          </p:blipFill>
          <p:spPr>
            <a:xfrm>
              <a:off x="2843280" y="404640"/>
              <a:ext cx="630072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9" descr="6"/>
            <p:cNvPicPr/>
            <p:nvPr/>
          </p:nvPicPr>
          <p:blipFill>
            <a:blip r:embed="rId7"/>
            <a:stretch/>
          </p:blipFill>
          <p:spPr>
            <a:xfrm>
              <a:off x="3492360" y="404640"/>
              <a:ext cx="5651640" cy="18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20" descr="7"/>
          <p:cNvPicPr/>
          <p:nvPr/>
        </p:nvPicPr>
        <p:blipFill>
          <a:blip r:embed="rId8"/>
          <a:stretch/>
        </p:blipFill>
        <p:spPr>
          <a:xfrm>
            <a:off x="0" y="0"/>
            <a:ext cx="2990880" cy="242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1"/>
          <p:cNvPicPr/>
          <p:nvPr/>
        </p:nvPicPr>
        <p:blipFill>
          <a:blip r:embed="rId9"/>
          <a:stretch/>
        </p:blipFill>
        <p:spPr>
          <a:xfrm flipH="1" rot="2325000">
            <a:off x="1732680" y="3007800"/>
            <a:ext cx="822600" cy="372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4"/>
          <p:cNvPicPr/>
          <p:nvPr/>
        </p:nvPicPr>
        <p:blipFill>
          <a:blip r:embed="rId10"/>
          <a:srcRect l="23305" t="0" r="0" b="32943"/>
          <a:stretch/>
        </p:blipFill>
        <p:spPr>
          <a:xfrm>
            <a:off x="2268360" y="0"/>
            <a:ext cx="6875640" cy="4508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cb5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cb5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76320" y="650520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137124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266652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C650-BC78-4D20-99BD-D669E09825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2360" y="2276280"/>
            <a:ext cx="777240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第八章 品种法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6141600" y="5033880"/>
            <a:ext cx="2216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d05af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0d05af"/>
                </a:solidFill>
                <a:latin typeface="楷体"/>
                <a:ea typeface="楷体"/>
              </a:rPr>
              <a:t>李会青</a:t>
            </a:r>
            <a:endParaRPr b="0" lang="en-US" sz="48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28083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179280" y="1746000"/>
            <a:ext cx="8964720" cy="4208760"/>
          </a:xfrm>
          <a:prstGeom prst="rect">
            <a:avLst/>
          </a:prstGeom>
          <a:solidFill>
            <a:srgbClr val="ebe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某公司有一个基本生产车间，大量生产甲、乙两种产品，因生产特点为大量大批单步骤生产，企业采用品种法进行产品成本计算。甲产品生产工时为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8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小时，乙产品生产工时为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400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小时，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2022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年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月发生与生产成本有关的资料如下：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）材料领用情况：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生产甲产品领用原材料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152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生产乙产品领用原材料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40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车间一般耗用原材料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20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）工资资料：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生产甲产品工人工资为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100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生产乙产品工人工资为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56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车间管理人员工资为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32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8083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179280" y="1609560"/>
            <a:ext cx="8964720" cy="4483080"/>
          </a:xfrm>
          <a:prstGeom prst="rect">
            <a:avLst/>
          </a:prstGeom>
          <a:solidFill>
            <a:srgbClr val="ebe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）固定资产折旧费用资料：生产用固定资产折旧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2000 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）该公司原材料随着生产进度陆续投入，制造费用按照生产工时比例，月末生产费用在完工品与在产品之间分配采用约当产量法，甲产品本月完工品为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800 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件，月末在产品为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400 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件；乙产品本月完工品为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400 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件，月末在产品为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400 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件；甲在产品及乙在产品的投料程度、完工程度均按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50%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计算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要求：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）根据以上资料，编制各项费用发生的会计分录；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）将制造费用归集、分配并编制相关的会计分录；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）计算甲、乙两种产品完工产品成本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借：生产成本—基本生产成本（甲产品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乙产品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贷：原材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1200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借：生产成本—基本生产成本（甲产品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乙产品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贷：应付职工薪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800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借：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贷：累计折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0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2000+3200+2000=7200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配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7200/(800+400)=6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甲分配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6×800=48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乙分配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6×400=2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196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借：生产成本——基本生产成本（甲产品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产成本——基本生产成本（乙产品）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贷：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200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甲产品生产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15200+10000+4800=30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甲产品在产品约当产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=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件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配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30000/(800+200)=30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甲产品完工品成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00=24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乙产品生产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4000+5600+2400=12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乙产品在产品约当产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=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件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配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12000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0+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20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乙产品完工品成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0=8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1322280" y="4662360"/>
            <a:ext cx="6572520" cy="150336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08" name="Group 30"/>
          <p:cNvGrpSpPr/>
          <p:nvPr/>
        </p:nvGrpSpPr>
        <p:grpSpPr>
          <a:xfrm>
            <a:off x="826920" y="1197000"/>
            <a:ext cx="7921440" cy="1944360"/>
            <a:chOff x="826920" y="1197000"/>
            <a:chExt cx="7921440" cy="1944360"/>
          </a:xfrm>
        </p:grpSpPr>
        <p:sp>
          <p:nvSpPr>
            <p:cNvPr id="109" name="AutoShape 6"/>
            <p:cNvSpPr/>
            <p:nvPr/>
          </p:nvSpPr>
          <p:spPr>
            <a:xfrm>
              <a:off x="826920" y="1197000"/>
              <a:ext cx="7921440" cy="1944360"/>
            </a:xfrm>
            <a:prstGeom prst="roundRect">
              <a:avLst>
                <a:gd name="adj" fmla="val 16667"/>
              </a:avLst>
            </a:prstGeom>
            <a:solidFill>
              <a:srgbClr val="699f6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32040" y="1301400"/>
              <a:ext cx="77166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简单法、单步法</a:t>
              </a:r>
              <a:r>
                <a:rPr b="1" lang="zh-CN" sz="3200" spc="-1" strike="noStrike">
                  <a:solidFill>
                    <a:srgbClr val="0d05af"/>
                  </a:solidFill>
                  <a:latin typeface="Arial"/>
                  <a:ea typeface="宋体"/>
                </a:rPr>
                <a:t>。</a:t>
              </a:r>
              <a:r>
                <a:rPr b="1" lang="zh-CN" sz="3200" spc="-1" strike="noStrike">
                  <a:solidFill>
                    <a:srgbClr val="0d05af"/>
                  </a:solidFill>
                  <a:latin typeface="黑体"/>
                  <a:ea typeface="黑体"/>
                </a:rPr>
                <a:t>是以产品品种作为成本计算对象，开设生产成本明细账，归集生产费用，计算产品成本的一种方法。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11" name="Group 32"/>
          <p:cNvGrpSpPr/>
          <p:nvPr/>
        </p:nvGrpSpPr>
        <p:grpSpPr>
          <a:xfrm>
            <a:off x="468360" y="4653000"/>
            <a:ext cx="8496000" cy="1869840"/>
            <a:chOff x="468360" y="4653000"/>
            <a:chExt cx="8496000" cy="1869840"/>
          </a:xfrm>
        </p:grpSpPr>
        <p:sp>
          <p:nvSpPr>
            <p:cNvPr id="112" name="AutoShape 5"/>
            <p:cNvSpPr/>
            <p:nvPr/>
          </p:nvSpPr>
          <p:spPr>
            <a:xfrm>
              <a:off x="468360" y="4653000"/>
              <a:ext cx="8496000" cy="1869840"/>
            </a:xfrm>
            <a:prstGeom prst="roundRect">
              <a:avLst>
                <a:gd name="adj" fmla="val 16667"/>
              </a:avLst>
            </a:prstGeom>
            <a:solidFill>
              <a:srgbClr val="ad6b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3" name="Rectangle 26"/>
            <p:cNvSpPr/>
            <p:nvPr/>
          </p:nvSpPr>
          <p:spPr>
            <a:xfrm>
              <a:off x="677520" y="4745520"/>
              <a:ext cx="81000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d05af"/>
                  </a:solidFill>
                  <a:latin typeface="黑体"/>
                  <a:ea typeface="黑体"/>
                </a:rPr>
                <a:t>大量、大批多步骤生产，管理上不要求按照步骤计算产品成本，也可以采用品种法。例如小型水泥厂、小型制砖、糖果等企业。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14" name="Group 31"/>
          <p:cNvGrpSpPr/>
          <p:nvPr/>
        </p:nvGrpSpPr>
        <p:grpSpPr>
          <a:xfrm>
            <a:off x="755640" y="3213000"/>
            <a:ext cx="7848360" cy="1293480"/>
            <a:chOff x="755640" y="3213000"/>
            <a:chExt cx="7848360" cy="1293480"/>
          </a:xfrm>
        </p:grpSpPr>
        <p:sp>
          <p:nvSpPr>
            <p:cNvPr id="115" name="AutoShape 3"/>
            <p:cNvSpPr/>
            <p:nvPr/>
          </p:nvSpPr>
          <p:spPr>
            <a:xfrm>
              <a:off x="755640" y="3213000"/>
              <a:ext cx="7848360" cy="1293480"/>
            </a:xfrm>
            <a:prstGeom prst="roundRect">
              <a:avLst>
                <a:gd name="adj" fmla="val 16667"/>
              </a:avLst>
            </a:prstGeom>
            <a:solidFill>
              <a:srgbClr val="7573a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6" name="Rectangle 28"/>
            <p:cNvSpPr/>
            <p:nvPr/>
          </p:nvSpPr>
          <p:spPr>
            <a:xfrm>
              <a:off x="927720" y="3327480"/>
              <a:ext cx="75661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主要适用于大量、大批的单步骤生产的企业。例如发电、供水、采掘等生产。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一、品种法概念及适用范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6"/>
          <p:cNvSpPr/>
          <p:nvPr/>
        </p:nvSpPr>
        <p:spPr>
          <a:xfrm>
            <a:off x="1042920" y="17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成本计算对象</a:t>
            </a:r>
            <a:endParaRPr b="0" lang="en-US" sz="2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3419640" y="1484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成本计算期</a:t>
            </a:r>
            <a:endParaRPr b="0" lang="en-US" sz="2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5867280" y="119700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生产费用的分配</a:t>
            </a:r>
            <a:endParaRPr b="0" lang="en-US" sz="2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21" name="Group 26"/>
          <p:cNvGrpSpPr/>
          <p:nvPr/>
        </p:nvGrpSpPr>
        <p:grpSpPr>
          <a:xfrm>
            <a:off x="1111320" y="2959200"/>
            <a:ext cx="2169720" cy="2774160"/>
            <a:chOff x="1111320" y="2959200"/>
            <a:chExt cx="2169720" cy="2774160"/>
          </a:xfrm>
        </p:grpSpPr>
        <p:grpSp>
          <p:nvGrpSpPr>
            <p:cNvPr id="122" name="Group 9"/>
            <p:cNvGrpSpPr/>
            <p:nvPr/>
          </p:nvGrpSpPr>
          <p:grpSpPr>
            <a:xfrm>
              <a:off x="1111320" y="2959200"/>
              <a:ext cx="2169720" cy="2774160"/>
              <a:chOff x="1111320" y="2959200"/>
              <a:chExt cx="2169720" cy="2774160"/>
            </a:xfrm>
          </p:grpSpPr>
          <p:sp>
            <p:nvSpPr>
              <p:cNvPr id="123" name="AutoShape 10"/>
              <p:cNvSpPr/>
              <p:nvPr/>
            </p:nvSpPr>
            <p:spPr>
              <a:xfrm>
                <a:off x="1113840" y="2959200"/>
                <a:ext cx="2167200" cy="2774160"/>
              </a:xfrm>
              <a:custGeom>
                <a:avLst/>
                <a:gdLst>
                  <a:gd name="textAreaLeft" fmla="*/ 79560 w 2167200"/>
                  <a:gd name="textAreaRight" fmla="*/ 2087640 w 2167200"/>
                  <a:gd name="textAreaTop" fmla="*/ 79560 h 2774160"/>
                  <a:gd name="textAreaBottom" fmla="*/ 2694600 h 2774160"/>
                </a:gdLst>
                <a:ahLst/>
                <a:rect l="textAreaLeft" t="textAreaTop" r="textAreaRight" b="textAreaBottom"/>
                <a:pathLst>
                  <a:path w="21600" h="27648">
                    <a:moveTo>
                      <a:pt x="2716" y="0"/>
                    </a:moveTo>
                    <a:arcTo wR="2716" hR="2716" stAng="16200000" swAng="-5400000"/>
                    <a:lnTo>
                      <a:pt x="0" y="24932"/>
                    </a:lnTo>
                    <a:arcTo wR="2716" hR="2716" stAng="10800000" swAng="-5400000"/>
                    <a:lnTo>
                      <a:pt x="18884" y="27648"/>
                    </a:lnTo>
                    <a:arcTo wR="2716" hR="2716" stAng="5400000" swAng="-5400000"/>
                    <a:lnTo>
                      <a:pt x="21600" y="2716"/>
                    </a:lnTo>
                    <a:arcTo wR="2716" hR="2716" stAng="0" swAng="-5400000"/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24" name="AutoShape 11"/>
              <p:cNvSpPr/>
              <p:nvPr/>
            </p:nvSpPr>
            <p:spPr>
              <a:xfrm>
                <a:off x="1111320" y="5013720"/>
                <a:ext cx="2168280" cy="714240"/>
              </a:xfrm>
              <a:prstGeom prst="roundRect">
                <a:avLst>
                  <a:gd name="adj" fmla="val 4975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25" name="AutoShape 12"/>
              <p:cNvSpPr/>
              <p:nvPr/>
            </p:nvSpPr>
            <p:spPr>
              <a:xfrm>
                <a:off x="1140120" y="2967840"/>
                <a:ext cx="2130480" cy="714240"/>
              </a:xfrm>
              <a:prstGeom prst="roundRect">
                <a:avLst>
                  <a:gd name="adj" fmla="val 387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sp>
          <p:nvSpPr>
            <p:cNvPr id="126" name="Text Box 13"/>
            <p:cNvSpPr/>
            <p:nvPr/>
          </p:nvSpPr>
          <p:spPr>
            <a:xfrm>
              <a:off x="1116000" y="4254840"/>
              <a:ext cx="2054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产品的品种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7" name="WordArt 20"/>
            <p:cNvSpPr txBox="1"/>
            <p:nvPr/>
          </p:nvSpPr>
          <p:spPr>
            <a:xfrm>
              <a:off x="1238400" y="3069360"/>
              <a:ext cx="558720" cy="63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0">
                    <a:noFill/>
                  </a:ln>
                  <a:solidFill>
                    <a:srgbClr val="ffff00"/>
                  </a:solidFill>
                  <a:latin typeface="Arial Black"/>
                </a:rPr>
                <a:t>01</a:t>
              </a:r>
              <a:endParaRPr b="0" i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28" name="Group 25"/>
          <p:cNvGrpSpPr/>
          <p:nvPr/>
        </p:nvGrpSpPr>
        <p:grpSpPr>
          <a:xfrm>
            <a:off x="3419640" y="2421000"/>
            <a:ext cx="2169720" cy="3312360"/>
            <a:chOff x="3419640" y="2421000"/>
            <a:chExt cx="2169720" cy="3312360"/>
          </a:xfrm>
        </p:grpSpPr>
        <p:grpSp>
          <p:nvGrpSpPr>
            <p:cNvPr id="129" name="Group 5"/>
            <p:cNvGrpSpPr/>
            <p:nvPr/>
          </p:nvGrpSpPr>
          <p:grpSpPr>
            <a:xfrm>
              <a:off x="3419640" y="2421000"/>
              <a:ext cx="2169720" cy="3312360"/>
              <a:chOff x="3419640" y="2421000"/>
              <a:chExt cx="2169720" cy="3312360"/>
            </a:xfrm>
          </p:grpSpPr>
          <p:sp>
            <p:nvSpPr>
              <p:cNvPr id="130" name="AutoShape 6"/>
              <p:cNvSpPr/>
              <p:nvPr/>
            </p:nvSpPr>
            <p:spPr>
              <a:xfrm>
                <a:off x="3422520" y="2421000"/>
                <a:ext cx="2166840" cy="3312360"/>
              </a:xfrm>
              <a:custGeom>
                <a:avLst/>
                <a:gdLst>
                  <a:gd name="textAreaLeft" fmla="*/ 79560 w 2166840"/>
                  <a:gd name="textAreaRight" fmla="*/ 2087280 w 2166840"/>
                  <a:gd name="textAreaTop" fmla="*/ 79560 h 3312360"/>
                  <a:gd name="textAreaBottom" fmla="*/ 3232800 h 3312360"/>
                </a:gdLst>
                <a:ahLst/>
                <a:rect l="textAreaLeft" t="textAreaTop" r="textAreaRight" b="textAreaBottom"/>
                <a:pathLst>
                  <a:path w="21600" h="33017">
                    <a:moveTo>
                      <a:pt x="2716" y="0"/>
                    </a:moveTo>
                    <a:arcTo wR="2716" hR="2716" stAng="16200000" swAng="-5400000"/>
                    <a:lnTo>
                      <a:pt x="0" y="30301"/>
                    </a:lnTo>
                    <a:arcTo wR="2716" hR="2716" stAng="10800000" swAng="-5400000"/>
                    <a:lnTo>
                      <a:pt x="18884" y="33017"/>
                    </a:lnTo>
                    <a:arcTo wR="2716" hR="2716" stAng="5400000" swAng="-5400000"/>
                    <a:lnTo>
                      <a:pt x="21600" y="2716"/>
                    </a:lnTo>
                    <a:arcTo wR="2716" hR="2716" stAng="0" swAng="-5400000"/>
                    <a:close/>
                  </a:path>
                </a:pathLst>
              </a:custGeom>
              <a:solidFill>
                <a:srgbClr val="d9d3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1" name="AutoShape 7"/>
              <p:cNvSpPr/>
              <p:nvPr/>
            </p:nvSpPr>
            <p:spPr>
              <a:xfrm>
                <a:off x="3419640" y="4874040"/>
                <a:ext cx="2168640" cy="852120"/>
              </a:xfrm>
              <a:prstGeom prst="roundRect">
                <a:avLst>
                  <a:gd name="adj" fmla="val 42588"/>
                </a:avLst>
              </a:prstGeom>
              <a:gradFill rotWithShape="0">
                <a:gsLst>
                  <a:gs pos="0">
                    <a:srgbClr val="7573a1">
                      <a:alpha val="0"/>
                    </a:srgbClr>
                  </a:gs>
                  <a:gs pos="100000">
                    <a:srgbClr val="c6c5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2" name="AutoShape 8"/>
              <p:cNvSpPr/>
              <p:nvPr/>
            </p:nvSpPr>
            <p:spPr>
              <a:xfrm>
                <a:off x="3429720" y="2431800"/>
                <a:ext cx="2151000" cy="851760"/>
              </a:xfrm>
              <a:prstGeom prst="roundRect">
                <a:avLst>
                  <a:gd name="adj" fmla="val 35907"/>
                </a:avLst>
              </a:prstGeom>
              <a:gradFill rotWithShape="0">
                <a:gsLst>
                  <a:gs pos="0">
                    <a:srgbClr val="d1d0e0"/>
                  </a:gs>
                  <a:gs pos="100000">
                    <a:srgbClr val="7573a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sp>
          <p:nvSpPr>
            <p:cNvPr id="133" name="Text Box 14"/>
            <p:cNvSpPr/>
            <p:nvPr/>
          </p:nvSpPr>
          <p:spPr>
            <a:xfrm>
              <a:off x="3518280" y="3669480"/>
              <a:ext cx="1957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月末定期核算，与会计报告期一致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4" name="WordArt 21"/>
            <p:cNvSpPr txBox="1"/>
            <p:nvPr/>
          </p:nvSpPr>
          <p:spPr>
            <a:xfrm>
              <a:off x="3538800" y="2512440"/>
              <a:ext cx="5601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0">
                    <a:noFill/>
                  </a:ln>
                  <a:solidFill>
                    <a:srgbClr val="ffff00"/>
                  </a:solidFill>
                  <a:latin typeface="Arial Black"/>
                </a:rPr>
                <a:t>02</a:t>
              </a:r>
              <a:endParaRPr b="0" i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35" name="Group 24"/>
          <p:cNvGrpSpPr/>
          <p:nvPr/>
        </p:nvGrpSpPr>
        <p:grpSpPr>
          <a:xfrm>
            <a:off x="5754600" y="2273400"/>
            <a:ext cx="2777760" cy="3460320"/>
            <a:chOff x="5754600" y="2273400"/>
            <a:chExt cx="2777760" cy="3460320"/>
          </a:xfrm>
        </p:grpSpPr>
        <p:sp>
          <p:nvSpPr>
            <p:cNvPr id="136" name="AutoShape 2"/>
            <p:cNvSpPr/>
            <p:nvPr/>
          </p:nvSpPr>
          <p:spPr>
            <a:xfrm>
              <a:off x="5758560" y="2273400"/>
              <a:ext cx="2733480" cy="3460320"/>
            </a:xfrm>
            <a:custGeom>
              <a:avLst/>
              <a:gdLst>
                <a:gd name="textAreaLeft" fmla="*/ 100440 w 2733480"/>
                <a:gd name="textAreaRight" fmla="*/ 2633040 w 2733480"/>
                <a:gd name="textAreaTop" fmla="*/ 100440 h 3460320"/>
                <a:gd name="textAreaBottom" fmla="*/ 3359880 h 3460320"/>
              </a:gdLst>
              <a:ahLst/>
              <a:rect l="textAreaLeft" t="textAreaTop" r="textAreaRight" b="textAreaBottom"/>
              <a:pathLst>
                <a:path w="21600" h="27343">
                  <a:moveTo>
                    <a:pt x="2716" y="0"/>
                  </a:moveTo>
                  <a:arcTo wR="2716" hR="2716" stAng="16200000" swAng="-5400000"/>
                  <a:lnTo>
                    <a:pt x="0" y="24627"/>
                  </a:lnTo>
                  <a:arcTo wR="2716" hR="2716" stAng="10800000" swAng="-5400000"/>
                  <a:lnTo>
                    <a:pt x="18884" y="273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699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7" name="AutoShape 3"/>
            <p:cNvSpPr/>
            <p:nvPr/>
          </p:nvSpPr>
          <p:spPr>
            <a:xfrm>
              <a:off x="5754600" y="4836600"/>
              <a:ext cx="2723400" cy="887760"/>
            </a:xfrm>
            <a:prstGeom prst="roundRect">
              <a:avLst>
                <a:gd name="adj" fmla="val 32134"/>
              </a:avLst>
            </a:prstGeom>
            <a:gradFill rotWithShape="0">
              <a:gsLst>
                <a:gs pos="0">
                  <a:srgbClr val="699f65"/>
                </a:gs>
                <a:gs pos="100000">
                  <a:srgbClr val="c1d7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5778360" y="2284200"/>
              <a:ext cx="2687400" cy="891720"/>
            </a:xfrm>
            <a:prstGeom prst="roundRect">
              <a:avLst>
                <a:gd name="adj" fmla="val 31319"/>
              </a:avLst>
            </a:prstGeom>
            <a:gradFill rotWithShape="0">
              <a:gsLst>
                <a:gs pos="0">
                  <a:srgbClr val="cddfcc"/>
                </a:gs>
                <a:gs pos="100000">
                  <a:srgbClr val="699f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9" name="Text Box 15"/>
            <p:cNvSpPr/>
            <p:nvPr/>
          </p:nvSpPr>
          <p:spPr>
            <a:xfrm>
              <a:off x="5880600" y="3315240"/>
              <a:ext cx="265176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单步骤生产，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不分配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多步骤生产，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分配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0" name="WordArt 22"/>
            <p:cNvSpPr txBox="1"/>
            <p:nvPr/>
          </p:nvSpPr>
          <p:spPr>
            <a:xfrm>
              <a:off x="5864760" y="2367000"/>
              <a:ext cx="706320" cy="61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0">
                    <a:noFill/>
                  </a:ln>
                  <a:solidFill>
                    <a:srgbClr val="ffff00"/>
                  </a:solidFill>
                  <a:latin typeface="Arial Black"/>
                </a:rPr>
                <a:t>03</a:t>
              </a:r>
              <a:endParaRPr b="0" i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品种法的特点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品种法的计算程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74760" y="6124680"/>
            <a:ext cx="8388360" cy="276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144" name="Picture 8" descr="light_shadow"/>
          <p:cNvPicPr/>
          <p:nvPr/>
        </p:nvPicPr>
        <p:blipFill>
          <a:blip r:embed="rId1"/>
          <a:stretch/>
        </p:blipFill>
        <p:spPr>
          <a:xfrm>
            <a:off x="1398600" y="5584680"/>
            <a:ext cx="1515960" cy="42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light_shadow"/>
          <p:cNvPicPr/>
          <p:nvPr/>
        </p:nvPicPr>
        <p:blipFill>
          <a:blip r:embed="rId2"/>
          <a:stretch/>
        </p:blipFill>
        <p:spPr>
          <a:xfrm>
            <a:off x="6516720" y="5594400"/>
            <a:ext cx="1403280" cy="40788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70"/>
          <p:cNvGrpSpPr/>
          <p:nvPr/>
        </p:nvGrpSpPr>
        <p:grpSpPr>
          <a:xfrm>
            <a:off x="971640" y="1844640"/>
            <a:ext cx="2347920" cy="3576600"/>
            <a:chOff x="971640" y="1844640"/>
            <a:chExt cx="2347920" cy="3576600"/>
          </a:xfrm>
        </p:grpSpPr>
        <p:sp>
          <p:nvSpPr>
            <p:cNvPr id="147" name="AutoShape 6"/>
            <p:cNvSpPr/>
            <p:nvPr/>
          </p:nvSpPr>
          <p:spPr>
            <a:xfrm>
              <a:off x="971640" y="1844640"/>
              <a:ext cx="2347920" cy="3576600"/>
            </a:xfrm>
            <a:custGeom>
              <a:avLst/>
              <a:gdLst>
                <a:gd name="textAreaLeft" fmla="*/ 15480 w 2347920"/>
                <a:gd name="textAreaRight" fmla="*/ 2332440 w 2347920"/>
                <a:gd name="textAreaTop" fmla="*/ 15480 h 3576600"/>
                <a:gd name="textAreaBottom" fmla="*/ 3561120 h 3576600"/>
              </a:gdLst>
              <a:ahLst/>
              <a:rect l="textAreaLeft" t="textAreaTop" r="textAreaRight" b="textAreaBottom"/>
              <a:pathLst>
                <a:path w="21600" h="32902">
                  <a:moveTo>
                    <a:pt x="488" y="0"/>
                  </a:moveTo>
                  <a:arcTo wR="488" hR="488" stAng="16200000" swAng="-5400000"/>
                  <a:lnTo>
                    <a:pt x="0" y="32414"/>
                  </a:lnTo>
                  <a:arcTo wR="488" hR="488" stAng="10800000" swAng="-5400000"/>
                  <a:lnTo>
                    <a:pt x="21112" y="32902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8" name="Rectangle 14"/>
            <p:cNvSpPr/>
            <p:nvPr/>
          </p:nvSpPr>
          <p:spPr>
            <a:xfrm>
              <a:off x="1133640" y="2421000"/>
              <a:ext cx="201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按照产品品种设置成本明细账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49" name="Group 74"/>
          <p:cNvGrpSpPr/>
          <p:nvPr/>
        </p:nvGrpSpPr>
        <p:grpSpPr>
          <a:xfrm>
            <a:off x="5989680" y="1628640"/>
            <a:ext cx="2354400" cy="3576600"/>
            <a:chOff x="5989680" y="1628640"/>
            <a:chExt cx="2354400" cy="3576600"/>
          </a:xfrm>
        </p:grpSpPr>
        <p:sp>
          <p:nvSpPr>
            <p:cNvPr id="150" name="AutoShape 5"/>
            <p:cNvSpPr/>
            <p:nvPr/>
          </p:nvSpPr>
          <p:spPr>
            <a:xfrm>
              <a:off x="5989680" y="1628640"/>
              <a:ext cx="2354400" cy="3576600"/>
            </a:xfrm>
            <a:custGeom>
              <a:avLst/>
              <a:gdLst>
                <a:gd name="textAreaLeft" fmla="*/ 15480 w 2354400"/>
                <a:gd name="textAreaRight" fmla="*/ 2338920 w 2354400"/>
                <a:gd name="textAreaTop" fmla="*/ 15480 h 3576600"/>
                <a:gd name="textAreaBottom" fmla="*/ 3561120 h 3576600"/>
              </a:gdLst>
              <a:ahLst/>
              <a:rect l="textAreaLeft" t="textAreaTop" r="textAreaRight" b="textAreaBottom"/>
              <a:pathLst>
                <a:path w="21600" h="32811">
                  <a:moveTo>
                    <a:pt x="488" y="0"/>
                  </a:moveTo>
                  <a:arcTo wR="488" hR="488" stAng="16200000" swAng="-5400000"/>
                  <a:lnTo>
                    <a:pt x="0" y="32323"/>
                  </a:lnTo>
                  <a:arcTo wR="488" hR="488" stAng="10800000" swAng="-5400000"/>
                  <a:lnTo>
                    <a:pt x="21112" y="32811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>
              <a:off x="6156360" y="2163600"/>
              <a:ext cx="2087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选择适合企业的方法计算分配完工产品和在产品成本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pic>
        <p:nvPicPr>
          <p:cNvPr id="152" name="Picture 17" descr="light_shadow"/>
          <p:cNvPicPr/>
          <p:nvPr/>
        </p:nvPicPr>
        <p:blipFill>
          <a:blip r:embed="rId3"/>
          <a:stretch/>
        </p:blipFill>
        <p:spPr>
          <a:xfrm>
            <a:off x="3909960" y="5584680"/>
            <a:ext cx="1515960" cy="42084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72"/>
          <p:cNvGrpSpPr/>
          <p:nvPr/>
        </p:nvGrpSpPr>
        <p:grpSpPr>
          <a:xfrm>
            <a:off x="3492360" y="1773360"/>
            <a:ext cx="2476440" cy="3576600"/>
            <a:chOff x="3492360" y="1773360"/>
            <a:chExt cx="2476440" cy="3576600"/>
          </a:xfrm>
        </p:grpSpPr>
        <p:sp>
          <p:nvSpPr>
            <p:cNvPr id="154" name="AutoShape 16"/>
            <p:cNvSpPr/>
            <p:nvPr/>
          </p:nvSpPr>
          <p:spPr>
            <a:xfrm>
              <a:off x="3492360" y="1773360"/>
              <a:ext cx="2476440" cy="3576600"/>
            </a:xfrm>
            <a:custGeom>
              <a:avLst/>
              <a:gdLst>
                <a:gd name="textAreaLeft" fmla="*/ 16200 w 2476440"/>
                <a:gd name="textAreaRight" fmla="*/ 2460240 w 2476440"/>
                <a:gd name="textAreaTop" fmla="*/ 16200 h 3576600"/>
                <a:gd name="textAreaBottom" fmla="*/ 3560400 h 3576600"/>
              </a:gdLst>
              <a:ahLst/>
              <a:rect l="textAreaLeft" t="textAreaTop" r="textAreaRight" b="textAreaBottom"/>
              <a:pathLst>
                <a:path w="21600" h="31194">
                  <a:moveTo>
                    <a:pt x="488" y="0"/>
                  </a:moveTo>
                  <a:arcTo wR="488" hR="488" stAng="16200000" swAng="-5400000"/>
                  <a:lnTo>
                    <a:pt x="0" y="30706"/>
                  </a:lnTo>
                  <a:arcTo wR="488" hR="488" stAng="10800000" swAng="-5400000"/>
                  <a:lnTo>
                    <a:pt x="21112" y="31194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55" name="Rectangle 20"/>
            <p:cNvSpPr/>
            <p:nvPr/>
          </p:nvSpPr>
          <p:spPr>
            <a:xfrm>
              <a:off x="3672720" y="2225880"/>
              <a:ext cx="21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①</a:t>
              </a: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分配要素费用； ②分配辅助生产费用；③分配制造费用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56" name="Group 69"/>
          <p:cNvGrpSpPr/>
          <p:nvPr/>
        </p:nvGrpSpPr>
        <p:grpSpPr>
          <a:xfrm>
            <a:off x="684360" y="1628640"/>
            <a:ext cx="2374560" cy="4322160"/>
            <a:chOff x="684360" y="1628640"/>
            <a:chExt cx="2374560" cy="4322160"/>
          </a:xfrm>
        </p:grpSpPr>
        <p:sp>
          <p:nvSpPr>
            <p:cNvPr id="157" name="AutoShape 10"/>
            <p:cNvSpPr/>
            <p:nvPr/>
          </p:nvSpPr>
          <p:spPr>
            <a:xfrm>
              <a:off x="684360" y="1628640"/>
              <a:ext cx="237456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14a2f"/>
                </a:gs>
                <a:gs pos="100000">
                  <a:srgbClr val="699f65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58" name="Group 36"/>
            <p:cNvGrpSpPr/>
            <p:nvPr/>
          </p:nvGrpSpPr>
          <p:grpSpPr>
            <a:xfrm>
              <a:off x="965880" y="3957480"/>
              <a:ext cx="1971720" cy="1993320"/>
              <a:chOff x="965880" y="3957480"/>
              <a:chExt cx="1971720" cy="1993320"/>
            </a:xfrm>
          </p:grpSpPr>
          <p:pic>
            <p:nvPicPr>
              <p:cNvPr id="159" name="Picture 37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981720" y="4030200"/>
                <a:ext cx="1890720" cy="182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Oval 38"/>
              <p:cNvSpPr/>
              <p:nvPr/>
            </p:nvSpPr>
            <p:spPr>
              <a:xfrm>
                <a:off x="981720" y="4030200"/>
                <a:ext cx="1903680" cy="1826640"/>
              </a:xfrm>
              <a:prstGeom prst="ellipse">
                <a:avLst/>
              </a:prstGeom>
              <a:solidFill>
                <a:srgbClr val="699f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pic>
            <p:nvPicPr>
              <p:cNvPr id="161" name="Picture 39" descr="light_shadow1"/>
              <p:cNvPicPr/>
              <p:nvPr/>
            </p:nvPicPr>
            <p:blipFill>
              <a:blip r:embed="rId5"/>
              <a:srcRect l="0" t="14289" r="0" b="0"/>
              <a:stretch/>
            </p:blipFill>
            <p:spPr>
              <a:xfrm>
                <a:off x="965880" y="3957480"/>
                <a:ext cx="1393200" cy="1139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2" name="Group 40"/>
              <p:cNvGrpSpPr/>
              <p:nvPr/>
            </p:nvGrpSpPr>
            <p:grpSpPr>
              <a:xfrm>
                <a:off x="1632600" y="4766400"/>
                <a:ext cx="1305000" cy="1184400"/>
                <a:chOff x="1632600" y="4766400"/>
                <a:chExt cx="1305000" cy="1184400"/>
              </a:xfrm>
            </p:grpSpPr>
            <p:grpSp>
              <p:nvGrpSpPr>
                <p:cNvPr id="163" name="Group 41"/>
                <p:cNvGrpSpPr/>
                <p:nvPr/>
              </p:nvGrpSpPr>
              <p:grpSpPr>
                <a:xfrm>
                  <a:off x="1932480" y="4766400"/>
                  <a:ext cx="1005120" cy="1172880"/>
                  <a:chOff x="1932480" y="4766400"/>
                  <a:chExt cx="1005120" cy="1172880"/>
                </a:xfrm>
              </p:grpSpPr>
              <p:sp>
                <p:nvSpPr>
                  <p:cNvPr id="164" name="AutoShape 42"/>
                  <p:cNvSpPr/>
                  <p:nvPr/>
                </p:nvSpPr>
                <p:spPr>
                  <a:xfrm flipH="1" flipV="1" rot="1528800">
                    <a:off x="2486880" y="4772160"/>
                    <a:ext cx="24732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43"/>
                  <p:cNvSpPr/>
                  <p:nvPr/>
                </p:nvSpPr>
                <p:spPr>
                  <a:xfrm flipH="1" flipV="1" rot="2344200">
                    <a:off x="2412000" y="4914000"/>
                    <a:ext cx="24732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AutoShape 44"/>
                  <p:cNvSpPr/>
                  <p:nvPr/>
                </p:nvSpPr>
                <p:spPr>
                  <a:xfrm flipH="1" flipV="1" rot="2640000">
                    <a:off x="2348280" y="4983120"/>
                    <a:ext cx="24732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45"/>
                  <p:cNvSpPr/>
                  <p:nvPr/>
                </p:nvSpPr>
                <p:spPr>
                  <a:xfrm flipH="1" flipV="1" rot="3172200">
                    <a:off x="2269440" y="5062680"/>
                    <a:ext cx="24732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46"/>
                <p:cNvGrpSpPr/>
                <p:nvPr/>
              </p:nvGrpSpPr>
              <p:grpSpPr>
                <a:xfrm>
                  <a:off x="1632600" y="5084640"/>
                  <a:ext cx="1257480" cy="866160"/>
                  <a:chOff x="1632600" y="5084640"/>
                  <a:chExt cx="1257480" cy="866160"/>
                </a:xfrm>
              </p:grpSpPr>
              <p:sp>
                <p:nvSpPr>
                  <p:cNvPr id="169" name="AutoShape 47"/>
                  <p:cNvSpPr/>
                  <p:nvPr/>
                </p:nvSpPr>
                <p:spPr>
                  <a:xfrm flipH="1" flipV="1" rot="2881800">
                    <a:off x="2321640" y="5015880"/>
                    <a:ext cx="24876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48"/>
                  <p:cNvSpPr/>
                  <p:nvPr/>
                </p:nvSpPr>
                <p:spPr>
                  <a:xfrm flipH="1" flipV="1" rot="3697200">
                    <a:off x="2196720" y="5119200"/>
                    <a:ext cx="24876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49"/>
                  <p:cNvSpPr/>
                  <p:nvPr/>
                </p:nvSpPr>
                <p:spPr>
                  <a:xfrm flipH="1" flipV="1" rot="3993000">
                    <a:off x="2111760" y="5158800"/>
                    <a:ext cx="24876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50"/>
                  <p:cNvSpPr/>
                  <p:nvPr/>
                </p:nvSpPr>
                <p:spPr>
                  <a:xfrm flipH="1" flipV="1" rot="4525200">
                    <a:off x="2008080" y="5200920"/>
                    <a:ext cx="24876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3" name="Rectangle 66"/>
            <p:cNvSpPr/>
            <p:nvPr/>
          </p:nvSpPr>
          <p:spPr>
            <a:xfrm>
              <a:off x="1156320" y="4259160"/>
              <a:ext cx="1502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d05af"/>
                  </a:solidFill>
                  <a:latin typeface="黑体"/>
                  <a:ea typeface="黑体"/>
                </a:rPr>
                <a:t>开设生产成本明细账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74" name="Group 71"/>
          <p:cNvGrpSpPr/>
          <p:nvPr/>
        </p:nvGrpSpPr>
        <p:grpSpPr>
          <a:xfrm>
            <a:off x="3492360" y="1916280"/>
            <a:ext cx="2260440" cy="4317480"/>
            <a:chOff x="3492360" y="1916280"/>
            <a:chExt cx="2260440" cy="4317480"/>
          </a:xfrm>
        </p:grpSpPr>
        <p:sp>
          <p:nvSpPr>
            <p:cNvPr id="175" name="AutoShape 18"/>
            <p:cNvSpPr/>
            <p:nvPr/>
          </p:nvSpPr>
          <p:spPr>
            <a:xfrm>
              <a:off x="3492360" y="1916280"/>
              <a:ext cx="226044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6354b"/>
                </a:gs>
                <a:gs pos="100000">
                  <a:srgbClr val="7573a1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76" name="Group 21"/>
            <p:cNvGrpSpPr/>
            <p:nvPr/>
          </p:nvGrpSpPr>
          <p:grpSpPr>
            <a:xfrm>
              <a:off x="3728880" y="4245120"/>
              <a:ext cx="1894320" cy="1988640"/>
              <a:chOff x="3728880" y="4245120"/>
              <a:chExt cx="1894320" cy="1988640"/>
            </a:xfrm>
          </p:grpSpPr>
          <p:pic>
            <p:nvPicPr>
              <p:cNvPr id="177" name="Picture 22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744000" y="4317840"/>
                <a:ext cx="1799640" cy="182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Oval 23"/>
              <p:cNvSpPr/>
              <p:nvPr/>
            </p:nvSpPr>
            <p:spPr>
              <a:xfrm>
                <a:off x="3744000" y="4317840"/>
                <a:ext cx="1811880" cy="1826640"/>
              </a:xfrm>
              <a:prstGeom prst="ellipse">
                <a:avLst/>
              </a:prstGeom>
              <a:solidFill>
                <a:srgbClr val="7573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pic>
            <p:nvPicPr>
              <p:cNvPr id="179" name="Picture 24" descr="light_shadow1"/>
              <p:cNvPicPr/>
              <p:nvPr/>
            </p:nvPicPr>
            <p:blipFill>
              <a:blip r:embed="rId7"/>
              <a:srcRect l="0" t="14289" r="0" b="0"/>
              <a:stretch/>
            </p:blipFill>
            <p:spPr>
              <a:xfrm>
                <a:off x="3728880" y="4245120"/>
                <a:ext cx="1326240" cy="1139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Group 25"/>
              <p:cNvGrpSpPr/>
              <p:nvPr/>
            </p:nvGrpSpPr>
            <p:grpSpPr>
              <a:xfrm>
                <a:off x="4330800" y="5054400"/>
                <a:ext cx="1292400" cy="1179360"/>
                <a:chOff x="4330800" y="5054400"/>
                <a:chExt cx="1292400" cy="1179360"/>
              </a:xfrm>
            </p:grpSpPr>
            <p:grpSp>
              <p:nvGrpSpPr>
                <p:cNvPr id="181" name="Group 26"/>
                <p:cNvGrpSpPr/>
                <p:nvPr/>
              </p:nvGrpSpPr>
              <p:grpSpPr>
                <a:xfrm>
                  <a:off x="4628880" y="5054400"/>
                  <a:ext cx="994320" cy="1167480"/>
                  <a:chOff x="4628880" y="5054400"/>
                  <a:chExt cx="994320" cy="1167480"/>
                </a:xfrm>
              </p:grpSpPr>
              <p:sp>
                <p:nvSpPr>
                  <p:cNvPr id="182" name="AutoShape 27"/>
                  <p:cNvSpPr/>
                  <p:nvPr/>
                </p:nvSpPr>
                <p:spPr>
                  <a:xfrm flipH="1" flipV="1" rot="1528800">
                    <a:off x="5182920" y="505728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AutoShape 28"/>
                  <p:cNvSpPr/>
                  <p:nvPr/>
                </p:nvSpPr>
                <p:spPr>
                  <a:xfrm flipH="1" flipV="1" rot="2344200">
                    <a:off x="5108040" y="5199840"/>
                    <a:ext cx="23544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AutoShape 29"/>
                  <p:cNvSpPr/>
                  <p:nvPr/>
                </p:nvSpPr>
                <p:spPr>
                  <a:xfrm flipH="1" flipV="1" rot="2640000">
                    <a:off x="5046120" y="5269680"/>
                    <a:ext cx="2350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30"/>
                  <p:cNvSpPr/>
                  <p:nvPr/>
                </p:nvSpPr>
                <p:spPr>
                  <a:xfrm flipH="1" flipV="1" rot="3172200">
                    <a:off x="4968360" y="534960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31"/>
                <p:cNvGrpSpPr/>
                <p:nvPr/>
              </p:nvGrpSpPr>
              <p:grpSpPr>
                <a:xfrm>
                  <a:off x="4330800" y="5376240"/>
                  <a:ext cx="1249560" cy="857520"/>
                  <a:chOff x="4330800" y="5376240"/>
                  <a:chExt cx="1249560" cy="857520"/>
                </a:xfrm>
              </p:grpSpPr>
              <p:sp>
                <p:nvSpPr>
                  <p:cNvPr id="187" name="AutoShape 32"/>
                  <p:cNvSpPr/>
                  <p:nvPr/>
                </p:nvSpPr>
                <p:spPr>
                  <a:xfrm flipH="1" flipV="1" rot="2881800">
                    <a:off x="5021640" y="53035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AutoShape 33"/>
                  <p:cNvSpPr/>
                  <p:nvPr/>
                </p:nvSpPr>
                <p:spPr>
                  <a:xfrm flipH="1" flipV="1" rot="3697200">
                    <a:off x="4898520" y="540576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AutoShape 34"/>
                  <p:cNvSpPr/>
                  <p:nvPr/>
                </p:nvSpPr>
                <p:spPr>
                  <a:xfrm flipH="1" flipV="1" rot="3993000">
                    <a:off x="4813560" y="544680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35"/>
                  <p:cNvSpPr/>
                  <p:nvPr/>
                </p:nvSpPr>
                <p:spPr>
                  <a:xfrm flipH="1" flipV="1" rot="4525200">
                    <a:off x="4711680" y="549036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1" name="Rectangle 67"/>
            <p:cNvSpPr/>
            <p:nvPr/>
          </p:nvSpPr>
          <p:spPr>
            <a:xfrm>
              <a:off x="3947760" y="4551840"/>
              <a:ext cx="143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d05af"/>
                  </a:solidFill>
                  <a:latin typeface="黑体"/>
                  <a:ea typeface="黑体"/>
                </a:rPr>
                <a:t>归集和分配各种费用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92" name="Group 73"/>
          <p:cNvGrpSpPr/>
          <p:nvPr/>
        </p:nvGrpSpPr>
        <p:grpSpPr>
          <a:xfrm>
            <a:off x="6084720" y="1844640"/>
            <a:ext cx="2274840" cy="4317480"/>
            <a:chOff x="6084720" y="1844640"/>
            <a:chExt cx="2274840" cy="4317480"/>
          </a:xfrm>
        </p:grpSpPr>
        <p:sp>
          <p:nvSpPr>
            <p:cNvPr id="193" name="AutoShape 12"/>
            <p:cNvSpPr/>
            <p:nvPr/>
          </p:nvSpPr>
          <p:spPr>
            <a:xfrm>
              <a:off x="6084720" y="1844640"/>
              <a:ext cx="227484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734757"/>
                </a:gs>
                <a:gs pos="100000">
                  <a:srgbClr val="ad6b83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94" name="Group 51"/>
            <p:cNvGrpSpPr/>
            <p:nvPr/>
          </p:nvGrpSpPr>
          <p:grpSpPr>
            <a:xfrm>
              <a:off x="6392520" y="4173480"/>
              <a:ext cx="1894320" cy="1988640"/>
              <a:chOff x="6392520" y="4173480"/>
              <a:chExt cx="1894320" cy="1988640"/>
            </a:xfrm>
          </p:grpSpPr>
          <p:pic>
            <p:nvPicPr>
              <p:cNvPr id="195" name="Picture 5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6407640" y="4246200"/>
                <a:ext cx="1799640" cy="182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Oval 53"/>
              <p:cNvSpPr/>
              <p:nvPr/>
            </p:nvSpPr>
            <p:spPr>
              <a:xfrm>
                <a:off x="6407640" y="4246200"/>
                <a:ext cx="1811880" cy="1826640"/>
              </a:xfrm>
              <a:prstGeom prst="ellipse">
                <a:avLst/>
              </a:prstGeom>
              <a:solidFill>
                <a:srgbClr val="ad6b8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pic>
            <p:nvPicPr>
              <p:cNvPr id="197" name="Picture 54" descr="light_shadow1"/>
              <p:cNvPicPr/>
              <p:nvPr/>
            </p:nvPicPr>
            <p:blipFill>
              <a:blip r:embed="rId9"/>
              <a:srcRect l="0" t="14289" r="0" b="0"/>
              <a:stretch/>
            </p:blipFill>
            <p:spPr>
              <a:xfrm>
                <a:off x="6392520" y="4173480"/>
                <a:ext cx="1326240" cy="1139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8" name="Group 55"/>
              <p:cNvGrpSpPr/>
              <p:nvPr/>
            </p:nvGrpSpPr>
            <p:grpSpPr>
              <a:xfrm>
                <a:off x="6994440" y="4982760"/>
                <a:ext cx="1292400" cy="1179360"/>
                <a:chOff x="6994440" y="4982760"/>
                <a:chExt cx="1292400" cy="1179360"/>
              </a:xfrm>
            </p:grpSpPr>
            <p:grpSp>
              <p:nvGrpSpPr>
                <p:cNvPr id="199" name="Group 56"/>
                <p:cNvGrpSpPr/>
                <p:nvPr/>
              </p:nvGrpSpPr>
              <p:grpSpPr>
                <a:xfrm>
                  <a:off x="7292520" y="4982760"/>
                  <a:ext cx="994320" cy="1167480"/>
                  <a:chOff x="7292520" y="4982760"/>
                  <a:chExt cx="994320" cy="1167480"/>
                </a:xfrm>
              </p:grpSpPr>
              <p:sp>
                <p:nvSpPr>
                  <p:cNvPr id="200" name="AutoShape 57"/>
                  <p:cNvSpPr/>
                  <p:nvPr/>
                </p:nvSpPr>
                <p:spPr>
                  <a:xfrm flipH="1" flipV="1" rot="1528800">
                    <a:off x="7846560" y="498564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58"/>
                  <p:cNvSpPr/>
                  <p:nvPr/>
                </p:nvSpPr>
                <p:spPr>
                  <a:xfrm flipH="1" flipV="1" rot="2344200">
                    <a:off x="7771680" y="5128200"/>
                    <a:ext cx="23544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59"/>
                  <p:cNvSpPr/>
                  <p:nvPr/>
                </p:nvSpPr>
                <p:spPr>
                  <a:xfrm flipH="1" flipV="1" rot="2640000">
                    <a:off x="7709760" y="5198040"/>
                    <a:ext cx="2350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60"/>
                  <p:cNvSpPr/>
                  <p:nvPr/>
                </p:nvSpPr>
                <p:spPr>
                  <a:xfrm flipH="1" flipV="1" rot="3172200">
                    <a:off x="7632000" y="527796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Group 61"/>
                <p:cNvGrpSpPr/>
                <p:nvPr/>
              </p:nvGrpSpPr>
              <p:grpSpPr>
                <a:xfrm>
                  <a:off x="6994440" y="5304600"/>
                  <a:ext cx="1249560" cy="857520"/>
                  <a:chOff x="6994440" y="5304600"/>
                  <a:chExt cx="1249560" cy="857520"/>
                </a:xfrm>
              </p:grpSpPr>
              <p:sp>
                <p:nvSpPr>
                  <p:cNvPr id="205" name="AutoShape 62"/>
                  <p:cNvSpPr/>
                  <p:nvPr/>
                </p:nvSpPr>
                <p:spPr>
                  <a:xfrm flipH="1" flipV="1" rot="2881800">
                    <a:off x="7685280" y="523188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utoShape 63"/>
                  <p:cNvSpPr/>
                  <p:nvPr/>
                </p:nvSpPr>
                <p:spPr>
                  <a:xfrm flipH="1" flipV="1" rot="3697200">
                    <a:off x="7562160" y="53341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utoShape 64"/>
                  <p:cNvSpPr/>
                  <p:nvPr/>
                </p:nvSpPr>
                <p:spPr>
                  <a:xfrm flipH="1" flipV="1" rot="3993000">
                    <a:off x="7477200" y="537516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65"/>
                  <p:cNvSpPr/>
                  <p:nvPr/>
                </p:nvSpPr>
                <p:spPr>
                  <a:xfrm flipH="1" flipV="1" rot="4525200">
                    <a:off x="7375320" y="54187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9" name="Rectangle 68"/>
            <p:cNvSpPr/>
            <p:nvPr/>
          </p:nvSpPr>
          <p:spPr>
            <a:xfrm>
              <a:off x="6597360" y="4705560"/>
              <a:ext cx="1431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d05af"/>
                  </a:solidFill>
                  <a:latin typeface="黑体"/>
                  <a:ea typeface="黑体"/>
                </a:rPr>
                <a:t>计算产品成本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章重点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20268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d05a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5af"/>
                </a:solidFill>
                <a:latin typeface="微软雅黑"/>
                <a:ea typeface="微软雅黑"/>
              </a:rPr>
              <a:t>品种法的特点、适用范围、核算程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d05a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5af"/>
                </a:solidFill>
                <a:latin typeface="微软雅黑"/>
                <a:ea typeface="微软雅黑"/>
              </a:rPr>
              <a:t>品种法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28083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179280" y="1883880"/>
            <a:ext cx="8964720" cy="3934440"/>
          </a:xfrm>
          <a:prstGeom prst="rect">
            <a:avLst/>
          </a:prstGeom>
          <a:solidFill>
            <a:srgbClr val="ebe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山西安特公司有一个基本生产车间，连续大量生产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两种产品，采用品种法计算产品成本。材料成本按照定额消耗量比例在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之间进行分配。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定额消耗量为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9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千克，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定额消耗量为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千克。直接人工成本和制造费用按工时比例在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之间进行分配，生产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耗用定额工时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3 0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小时，生产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耗用定额工时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4 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小时，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月初无在产品，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月初在产品成本如下：直接材料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6 32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直接人工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 2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制造费用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1 0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。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022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年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月该企业发生与产品生产相关的经济业务如下：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）从仓库领用生产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两种产品共同耗用的原材料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千克，成本总额为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8 0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。原材料在开始生产时一次投入，分配材料费用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28083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179280" y="1883880"/>
            <a:ext cx="8964720" cy="3934440"/>
          </a:xfrm>
          <a:prstGeom prst="rect">
            <a:avLst/>
          </a:prstGeom>
          <a:solidFill>
            <a:srgbClr val="ebe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）本月共发生职工薪酬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6 25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其中车间生产人员薪酬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18 75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车间管理人员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7 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分配人工费用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）本月车间发生费用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30 0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其中计提固定资产折旧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2 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以存款支付车间用房日常维修费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7 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）归集、分配本月制造费用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）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采用约当产量法计算完工产品与月末在产品成本。月末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完工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9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件，在产品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7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件，在产品完工率按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计算，结转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完工产品成本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要求：根据上述资料，不考虑其他因素，编制会计分录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e9e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000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原材料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7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125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制造费用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7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应付职工薪酬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625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制造费用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2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累计折旧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2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管理费用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7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银行存款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2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4.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800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制造费用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30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5.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库存商品—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325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325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品种法的成本计算程序图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-181080" y="115920"/>
          <a:ext cx="13177800" cy="609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15920"/>
                    <a:ext cx="13177800" cy="60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09:04:50Z</dcterms:created>
  <dc:creator>a</dc:creator>
  <dc:description/>
  <dc:language>en-US</dc:language>
  <cp:lastModifiedBy>Administrator</cp:lastModifiedBy>
  <dcterms:modified xsi:type="dcterms:W3CDTF">2022-05-24T02:11:44Z</dcterms:modified>
  <cp:revision>22</cp:revision>
  <dc:subject/>
  <dc:title>ThemeGallery PowerTemplate</dc:title>
</cp:coreProperties>
</file>